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5440" y="87480"/>
            <a:ext cx="9043920" cy="6701760"/>
            <a:chOff x="55440" y="87480"/>
            <a:chExt cx="9043920" cy="6701760"/>
          </a:xfrm>
        </p:grpSpPr>
        <p:sp>
          <p:nvSpPr>
            <p:cNvPr id="1" name=""/>
            <p:cNvSpPr/>
            <p:nvPr/>
          </p:nvSpPr>
          <p:spPr>
            <a:xfrm>
              <a:off x="139320" y="87480"/>
              <a:ext cx="8873280" cy="670176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5440" y="176040"/>
              <a:ext cx="9043920" cy="652824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8640" y="131760"/>
              <a:ext cx="895716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3940200" y="6281640"/>
            <a:ext cx="12193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038480" y="6346800"/>
            <a:ext cx="990720" cy="449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14760" y="2368440"/>
            <a:ext cx="586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S 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ail No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64640" y="5867280"/>
            <a:ext cx="25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 De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Support Services L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13120" y="525780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6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76212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 of the Email Notif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for self-signup of Market Participants to appropriate mai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for efficiently sending messages to targeted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ase using Working Group list for notice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number of duplicate e-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2240" y="1716120"/>
            <a:ext cx="7940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ends message to multiple mail lists, including working group lists in attempt to cover desired aud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ed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ends message to specific e-mail list designed for distribution of such message. Market Participants self- signup for the list, determining who should receive the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7000" y="14367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00" y="5638680"/>
            <a:ext cx="75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indicate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Grou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 top is a member of the Mailing List on the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3640" y="34452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Dow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68680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6:57:03Z</dcterms:created>
  <dc:creator>adeller</dc:creator>
  <dc:description/>
  <dc:language>en-US</dc:language>
  <cp:lastModifiedBy>adeller</cp:lastModifiedBy>
  <dcterms:modified xsi:type="dcterms:W3CDTF">2005-04-22T19:55:55Z</dcterms:modified>
  <cp:revision>10</cp:revision>
  <dc:subject/>
  <dc:title>Slide 1</dc:title>
</cp:coreProperties>
</file>